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2096B-41FD-43F7-9585-768F047D3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2360-4828-41E2-8871-87DC7E22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556A1-D9FE-470C-826A-F24841911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C2719-A4D4-45BC-8BE7-8B01AE928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19D4-BCB1-4473-BAE4-9684CF875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5F1E-FE0E-432D-86B5-B589944C6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19C1-D173-4708-8EF9-D42D44AE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D933-AD0F-42FF-BE3D-7A86C8600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661F9-EB84-425C-AAA0-B5489CBA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1002-5F7F-4AF6-9D34-B43AFEB9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689A-5046-4EF4-B8F5-0625B22F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B258-D66D-44FA-9659-CFFBB3D59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A35C-28F6-40C0-9F9C-CA0B5A1E0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s.mcstatic.com/thumb/523620/3558753/4/sidebar_16x9/0/1/crazy_car_accident.jpg&amp;imgrefurl=http://www.metacafe.com/watch/2891765/crazy_cars_car_modification/&amp;usg=__4IhQtstRWQCmVOBNwgglBgNHkXk=&amp;h=74&amp;w=123&amp;sz=4&amp;hl=en&amp;start=9&amp;zoom=0&amp;itbs=1&amp;tbnid=_Yk6sIbM6bupTM:&amp;tbnh=54&amp;tbnw=89&amp;prev=/images%3Fq%3DLefortovo%2Btunnel%2Bcar%2Bcrashes%26hl%3Den%26sa%3DG%26gbv%3D2%26tbs%3Disch:1"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Move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ma Smyth and Ryan Donah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Movement</a:t>
            </a:r>
            <a:endParaRPr b="0" lang="en-US" sz="4400" spc="-1" strike="noStrike">
              <a:solidFill>
                <a:srgbClr val="000000"/>
              </a:solidFill>
              <a:latin typeface="Arial"/>
            </a:endParaRPr>
          </a:p>
        </p:txBody>
      </p:sp>
      <p:sp>
        <p:nvSpPr>
          <p:cNvPr id="44"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Gigi"/>
              </a:rPr>
              <a:t>	</a:t>
            </a:r>
            <a:r>
              <a:rPr b="1" lang="en-US" sz="4400" spc="-1" strike="noStrike">
                <a:solidFill>
                  <a:srgbClr val="ff3399"/>
                </a:solidFill>
                <a:latin typeface="Gigi"/>
              </a:rPr>
              <a:t>Russia is a big country.  A very big country.  The biggest country in the world actually.  So when it comes to moving, it is very important.  Moving is very tough, but Russians manage</a:t>
            </a:r>
            <a:r>
              <a:rPr b="1" lang="en-US" sz="2800" spc="-1" strike="noStrike">
                <a:solidFill>
                  <a:srgbClr val="ff3399"/>
                </a:solidFill>
                <a:latin typeface="Gig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 0 C -0.00278 0.02058 -0.00695 0.0363 -0.01424 0.0548 C -0.01615 0.0652 -0.01979 0.07514 -0.02379 0.08439 C -0.02587 0.08879 -0.03004 0.09711 -0.03004 0.09711 C -0.03108 0.10913 -0.03195 0.11607 -0.0349 0.12671 C -0.03733 0.1489 -0.04393 0.16694 -0.04913 0.18798 C -0.0507 0.20809 -0.05434 0.22728 -0.05712 0.24717 C -0.05799 0.26081 -0.05886 0.27792 -0.06181 0.29156 C -0.06337 0.29827 -0.0665 0.30405 -0.06823 0.31075 C -0.07066 0.32023 -0.07101 0.32902 -0.07448 0.33803 C -0.07622 0.35006 -0.07934 0.35723 -0.08403 0.36763 C -0.08455 0.37156 -0.08768 0.39723 -0.09045 0.40786 C -0.09445 0.42358 -0.10018 0.43468 -0.10781 0.44809 C -0.10955 0.4511 -0.10972 0.45526 -0.11094 0.45873 C -0.11406 0.46705 -0.11806 0.47607 -0.12205 0.48393 C -0.12431 0.4978 -0.129 0.50798 -0.13646 0.51792 C -0.14184 0.53549 -0.15104 0.55029 -0.16025 0.56439 C -0.16615 0.57341 -0.17587 0.58173 -0.1809 0.59191 C -0.18802 0.60601 -0.18455 0.60093 -0.19045 0.60879 C -0.19097 0.61087 -0.19097 0.61341 -0.19202 0.61503 C -0.19323 0.61688 -0.19531 0.61757 -0.1967 0.61919 C -0.20261 0.62567 -0.20712 0.63514 -0.21268 0.64254 C -0.21528 0.65272 -0.22066 0.65364 -0.22535 0.6615 C -0.22656 0.66358 -0.22691 0.66659 -0.22847 0.66798 C -0.23038 0.6696 -0.23281 0.66936 -0.2349 0.67006 C -0.23854 0.68462 -0.24618 0.68971 -0.25538 0.69757 C -0.2599 0.70127 -0.26823 0.71029 -0.26823 0.71029 C -0.2717 0.71723 -0.27726 0.72462 -0.28247 0.72925 C -0.28386 0.7304 -0.28559 0.7304 -0.28715 0.73133 C -0.28993 0.73318 -0.29271 0.73503 -0.29531 0.73757 C -0.29757 0.74012 -0.29913 0.74382 -0.30174 0.74613 C -0.30365 0.74798 -0.3059 0.74867 -0.30781 0.75029 C -0.31007 0.75214 -0.31233 0.75445 -0.31424 0.75676 C -0.31615 0.75861 -0.31719 0.76139 -0.31893 0.76301 C -0.33229 0.77526 -0.34809 0.78798 -0.36337 0.79468 C -0.37031 0.80093 -0.37795 0.80647 -0.38559 0.81156 C -0.39132 0.81942 -0.39688 0.82497 -0.40469 0.82867 C -0.4132 0.84 -0.42153 0.84254 -0.43316 0.84555 C -0.45417 0.85919 -0.47604 0.86936 -0.49827 0.87931 C -0.53334 0.87815 -0.55313 0.88069 -0.58247 0.87306 C -0.58976 0.86913 -0.59531 0.86659 -0.60313 0.86451 C -0.61163 0.85988 -0.61962 0.8541 -0.62847 0.85179 C -0.64028 0.84139 -0.65695 0.84069 -0.66823 0.83075 C -0.67257 0.82682 -0.67674 0.8222 -0.6809 0.81803 C -0.68455 0.81434 -0.69045 0.80532 -0.69045 0.80532 C -0.7007 0.77711 -0.68611 0.8148 -0.69827 0.79052 C -0.69913 0.78867 -0.69913 0.78613 -0.69983 0.78428 C -0.70434 0.77249 -0.71059 0.75977 -0.71736 0.75029 C -0.7184 0.74682 -0.7191 0.74312 -0.72049 0.73988 C -0.7224 0.73549 -0.72691 0.72717 -0.72691 0.72717 C -0.72847 0.71838 -0.73021 0.71191 -0.73316 0.70382 C -0.73368 0.69757 -0.73403 0.6911 -0.7349 0.68486 C -0.73559 0.67908 -0.73802 0.66798 -0.73802 0.66798 C -0.73941 0.63653 -0.74757 0.59145 -0.73316 0.56439 C -0.72587 0.52486 -0.70104 0.50659 -0.6809 0.47977 C -0.67448 0.47121 -0.67031 0.46428 -0.66181 0.45873 C -0.65538 0.45017 -0.6474 0.44578 -0.64115 0.43746 C -0.63924 0.43491 -0.63837 0.43168 -0.63646 0.42913 C -0.62865 0.41873 -0.63264 0.42543 -0.62535 0.42058 C -0.60851 0.40948 -0.60018 0.40439 -0.5809 0.40162 C -0.57934 0.40185 -0.54861 0.40393 -0.54271 0.40578 C -0.53872 0.40694 -0.53542 0.4104 -0.5316 0.41202 C -0.52118 0.42127 -0.51927 0.41942 -0.50938 0.42682 C -0.49983 0.43399 -0.49965 0.43884 -0.48872 0.44162 C -0.48021 0.44971 -0.47049 0.45526 -0.46181 0.46289 C -0.44792 0.47491 -0.43594 0.49133 -0.42205 0.50312 C -0.41806 0.50659 -0.4132 0.50798 -0.40938 0.51145 C -0.39757 0.52208 -0.38924 0.53711 -0.37761 0.54751 C -0.36979 0.55445 -0.36094 0.56208 -0.354 0.57064 C -0.35139 0.57364 -0.35 0.57827 -0.34757 0.58127 C -0.34236 0.58775 -0.33611 0.59306 -0.33004 0.59815 C -0.32865 0.59931 -0.32396 0.60023 -0.32535 0.60023 C -0.32813 0.60023 -0.33056 0.59884 -0.33316 0.59815 C -0.33281 0.59653 -0.33125 0.58751 -0.32847 0.58751 C -0.32691 0.58751 -0.32639 0.59052 -0.32535 0.59191 C -0.32118 0.59769 -0.3165 0.60093 -0.31094 0.60439 C -0.304 0.6141 -0.2967 0.62289 -0.28715 0.62775 C -0.28229 0.63445 -0.27813 0.63746 -0.27136 0.64046 C -0.26406 0.6474 -0.25764 0.65457 -0.2507 0.6615 C -0.23351 0.67884 -0.25087 0.65919 -0.23646 0.67214 C -0.23212 0.67607 -0.22882 0.68277 -0.22379 0.68486 C -0.21719 0.68763 -0.21233 0.69341 -0.20625 0.69757 C -0.19705 0.70382 -0.20625 0.69387 -0.19514 0.70382 C -0.18802 0.71006 -0.18108 0.72093 -0.17292 0.72509 C -0.16337 0.73017 -0.15486 0.73249 -0.14601 0.73988 C -0.13959 0.75191 -0.1467 0.7415 -0.13646 0.74821 C -0.13507 0.74913 -0.13438 0.75121 -0.13316 0.75237 C -0.12865 0.75723 -0.12761 0.75746 -0.12205 0.76093 C -0.11684 0.76786 -0.10538 0.77688 -0.09827 0.77988 C -0.09132 0.78636 -0.08195 0.79121 -0.07604 0.79908 C -0.06806 0.80971 -0.0724 0.80578 -0.06337 0.81156 C -0.06025 0.81087 -0.0566 0.81156 -0.05382 0.80948 C -0.05243 0.80832 -0.05313 0.80532 -0.05226 0.80324 C -0.04983 0.79676 -0.04827 0.79561 -0.04427 0.79052 C -0.03785 0.77318 -0.0349 0.75584 -0.02691 0.73988 C -0.02344 0.72301 -0.01702 0.7126 -0.01094 0.69757 C -0.00677 0.6874 -0.004 0.67607 0 0.6659 C 0.00139 0.6622 0.00364 0.65896 0.00486 0.65526 C 0.00746 0.64694 0.01111 0.62983 0.01111 0.62983 C 0.01302 0.61595 0.01666 0.60324 0.0191 0.5896 C 0.01771 0.53711 0.01944 0.52948 0.00486 0.4904 C 0.00416 0.48624 0.00416 0.48162 0.0033 0.47769 C 0.00173 0.47168 -0.00313 0.46081 -0.00313 0.46081 C -0.00625 0.4437 -0.01424 0.42821 -0.02205 0.41434 C -0.02622 0.39884 -0.03542 0.38127 -0.04757 0.37619 C -0.0566 0.37688 -0.06563 0.37665 -0.07448 0.37827 C -0.08195 0.37965 -0.08386 0.3852 -0.09045 0.3889 C -0.10538 0.39723 -0.12031 0.40416 -0.1349 0.41434 C -0.14202 0.41942 -0.14827 0.42636 -0.15538 0.43121 C -0.15938 0.43399 -0.16424 0.43445 -0.16823 0.43746 C -0.18681 0.4511 -0.179 0.44879 -0.19202 0.46081 C -0.21042 0.47769 -0.19931 0.46382 -0.21094 0.47977 C -0.21563 0.49642 -0.20851 0.47283 -0.21736 0.49457 C -0.22188 0.50567 -0.22309 0.51769 -0.22847 0.52832 C -0.23195 0.5422 -0.23542 0.55792 -0.24115 0.57064 C -0.25243 0.59584 -0.26754 0.61803 -0.27952 0.64254 C -0.28195 0.64786 -0.28334 0.6541 -0.28559 0.65942 C -0.29358 0.67723 -0.29479 0.6733 -0.30469 0.6911 C -0.31285 0.7052 -0.3184 0.72208 -0.32691 0.73549 C -0.33056 0.74104 -0.33559 0.74497 -0.33959 0.75029 C -0.35122 0.76555 -0.35851 0.7852 -0.37153 0.79908 C -0.4007 0.83075 -0.3717 0.7933 -0.3967 0.82428 C -0.42031 0.85364 -0.39931 0.82775 -0.42049 0.86243 C -0.43264 0.88231 -0.44045 0.88324 -0.45712 0.90266 C -0.46563 0.9126 -0.47344 0.92347 -0.48247 0.93225 C -0.50538 0.95468 -0.525 0.9815 -0.54913 1.00185 C -0.56233 1.01295 -0.575 1.02821 -0.59045 1.03145 C -0.60174 1.03653 -0.61337 1.03399 -0.62379 1.02728 C -0.63959 1.00578 -0.66059 0.99399 -0.67761 0.97434 C -0.68264 0.96832 -0.68785 0.96254 -0.69202 0.95538 C -0.6941 0.95191 -0.69584 0.94798 -0.69827 0.94474 C -0.70538 0.93526 -0.71406 0.92601 -0.72205 0.91746 C -0.7283 0.90127 -0.73768 0.88994 -0.74271 0.87306 C -0.74618 0.84462 -0.75087 0.81619 -0.75712 0.78844 C -0.76025 0.75954 -0.76059 0.72971 -0.7665 0.70173 C -0.77031 0.64555 -0.77674 0.58636 -0.76181 0.53272 C -0.75955 0.51191 -0.75781 0.49503 -0.75226 0.47561 C -0.74879 0.46335 -0.74323 0.45179 -0.73959 0.43954 C -0.73594 0.42705 -0.73507 0.41734 -0.73004 0.40578 C -0.7283 0.40185 -0.72535 0.39908 -0.72379 0.39514 C -0.71771 0.37942 -0.71354 0.36254 -0.70781 0.34659 C -0.70573 0.34081 -0.70486 0.3341 -0.70156 0.32971 C -0.67986 0.30081 -0.7059 0.33757 -0.68872 0.30636 C -0.68646 0.30243 -0.68334 0.29965 -0.6809 0.29595 C -0.675 0.28717 -0.66962 0.27676 -0.66337 0.26844 C -0.6559 0.2585 -0.6434 0.24671 -0.6349 0.23884 C -0.62917 0.23353 -0.62396 0.2326 -0.61736 0.23029 C -0.6132 0.22867 -0.60469 0.22613 -0.60469 0.22613 C -0.59254 0.22682 -0.58038 0.22636 -0.56823 0.22821 C -0.56424 0.2289 -0.56111 0.23353 -0.55712 0.23445 C -0.55243 0.23561 -0.54757 0.23607 -0.54271 0.23676 C -0.53577 0.24301 -0.52778 0.24578 -0.52049 0.25156 C -0.50747 0.26173 -0.49445 0.27191 -0.4809 0.28116 C -0.47726 0.2837 -0.47465 0.28832 -0.47136 0.29156 C -0.45347 0.30867 -0.43038 0.3237 -0.4158 0.34659 C -0.41146 0.35353 -0.40955 0.36116 -0.40469 0.36763 C -0.40226 0.37803 -0.39688 0.38451 -0.39202 0.39306 C -0.38768 0.41064 -0.39375 0.38983 -0.38715 0.4037 C -0.38611 0.40578 -0.38438 0.41711 -0.38403 0.4185 C -0.38368 0.42497 -0.38386 0.44971 -0.37934 0.45873 C -0.37483 0.46821 -0.37118 0.47538 -0.3665 0.48393 C -0.36511 0.48671 -0.36181 0.49249 -0.36181 0.49249 C -0.35625 0.51538 -0.34028 0.53202 -0.33004 0.55168 C -0.32448 0.56254 -0.3217 0.57064 -0.31285 0.57711 C -0.31163 0.57988 -0.31111 0.58312 -0.30955 0.58543 C -0.30781 0.58751 -0.30504 0.58798 -0.30313 0.5896 C -0.29809 0.59422 -0.29445 0.59861 -0.28889 0.60231 C -0.28195 0.61179 -0.26962 0.61642 -0.26025 0.6215 C -0.24323 0.61965 -0.23941 0.62127 -0.22691 0.61295 C -0.22275 0.60462 -0.21736 0.59769 -0.21268 0.5896 C -0.20851 0.58243 -0.2059 0.57549 -0.20156 0.56856 C -0.19705 0.56139 -0.19653 0.55491 -0.19045 0.5496 C -0.1882 0.54104 -0.18438 0.5341 -0.1809 0.52624 C -0.17952 0.51699 -0.1783 0.50775 -0.17604 0.49873 C -0.17656 0.47908 -0.17622 0.45919 -0.17761 0.43954 C -0.17778 0.43699 -0.18021 0.43561 -0.1809 0.4333 C -0.18177 0.43052 -0.18143 0.42728 -0.18247 0.42474 C -0.1882 0.4111 -0.20226 0.40647 -0.21268 0.4037 C -0.26667 0.40532 -0.26059 0.40301 -0.29202 0.40994 C -0.30972 0.42428 -0.30191 0.42081 -0.31424 0.42474 C -0.32118 0.43399 -0.3309 0.43746 -0.33959 0.44393 C -0.34722 0.44971 -0.35434 0.45688 -0.36181 0.46289 C -0.36684 0.46705 -0.3724 0.47006 -0.37761 0.47353 C -0.38195 0.4763 -0.39045 0.48185 -0.39045 0.48185 C -0.39688 0.49087 -0.40504 0.49387 -0.41268 0.50081 C -0.42396 0.51075 -0.43299 0.51723 -0.44427 0.52624 C -0.45087 0.53919 -0.46233 0.55098 -0.47292 0.55792 C -0.47865 0.56578 -0.48559 0.57225 -0.49202 0.57919 C -0.49636 0.58382 -0.5007 0.58428 -0.50469 0.5896 E">
                                      <p:cBhvr>
                                        <p:cTn id="6" dur="2000" fill="hold"/>
                                        <p:tgtEl>
                                          <p:spTgt spid="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tretch/>
        </p:blipFill>
        <p:spPr>
          <a:xfrm>
            <a:off x="609480" y="1600200"/>
            <a:ext cx="3886200" cy="449568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oadway"/>
              </a:rPr>
              <a:t>Lefortovo Tunnel</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Broadway"/>
              </a:rPr>
              <a:t>Lefortovo Tunnel, also known as the “Tunnel of Death” is in Moscow.  It causes many car crashes, and accidents.  The accidents are caused by water leaking into the tunnel, and freez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49497 -0.00856 C -0.4849 -0.00787 -0.475 -0.00764 -0.46493 -0.00648 C -0.4566 -0.00555 -0.44792 0.00046 -0.43941 0.00208 C -0.4191 0.00624 -0.39931 0.01156 -0.37917 0.01687 C -0.36545 0.02034 -0.35157 0.0208 -0.33802 0.0252 C -0.23646 0.02381 -0.13733 0.02127 -0.03629 0.02312 C 0.0125 0.02728 0.06076 0.03583 0.10972 0.03791 C 0.15416 0.04323 0.19843 0.05017 0.24305 0.05479 C 0.30711 0.05341 0.371 0.05225 0.43507 0.04855 C 0.43715 0.04786 0.43941 0.04763 0.44149 0.04647 C 0.44323 0.04554 0.4467 0.04462 0.44618 0.04231 C 0.44548 0.03953 0.44201 0.04069 0.43993 0.04 C 0.41909 0.05872 0.39201 0.06497 0.3684 0.07398 C 0.32777 0.08947 0.2868 0.10658 0.24461 0.11398 C 0.22361 0.12531 0.20538 0.12693 0.18264 0.12878 C 0.15468 0.13387 0.12708 0.13757 0.09843 0.13942 C -0.00816 0.13734 -0.10174 0.13317 -0.20452 0.1267 C -0.24427 0.1193 -0.26007 0.12115 -0.31094 0.12254 C -0.31927 0.12393 -0.32657 0.12739 -0.33473 0.12878 C -0.35851 0.13271 -0.38229 0.13479 -0.40608 0.13734 C -0.39063 0.14335 -0.37604 0.14774 -0.36025 0.15005 C -0.31927 0.16346 -0.27865 0.17664 -0.23785 0.19028 C -0.22084 0.19606 -0.20469 0.20508 -0.18716 0.20924 C -0.1665 0.2141 -0.14601 0.2171 -0.12518 0.21988 C -0.11997 0.22057 -0.10938 0.22196 -0.10938 0.22196 C -0.03716 0.20763 0.07899 0.22127 0.13194 0.22196 C 0.19496 0.22404 0.25677 0.22289 0.31927 0.21549 C 0.32586 0.21248 0.33246 0.21225 0.33836 0.20716 C 0.34757 0.19953 0.35312 0.19167 0.36371 0.18797 C 0.37465 0.17849 0.36961 0.18127 0.37795 0.17757 C 0.38368 0.17248 0.38836 0.16832 0.39218 0.16069 C 0.3908 0.14982 0.38923 0.1371 0.38593 0.1267 C 0.38298 0.11768 0.38229 0.12254 0.37795 0.11398 C 0.37604 0.11005 0.37517 0.10543 0.37326 0.1015 C 0.3651 0.08416 0.35503 0.07421 0.34149 0.06543 C 0.33507 0.06127 0.33211 0.05549 0.32552 0.05271 C 0.32396 0.05132 0.32257 0.04971 0.32083 0.04855 C 0.31823 0.04693 0.31527 0.04624 0.31284 0.04439 C 0.30156 0.03583 0.32083 0.04369 0.3033 0.03791 C 0.29271 0.03098 0.28142 0.02473 0.26996 0.02104 C 0.26527 0.01803 0.26024 0.01618 0.25573 0.01271 C 0.24444 0.00416 0.26371 0.01202 0.24618 0.00624 C 0.23455 -0.00532 0.22066 -0.0081 0.20659 -0.01064 C 0.12222 -0.00925 0.10677 -0.0192 0.0493 0.00624 C 0.03663 0.00554 0.02396 0.00578 0.01128 0.00416 C 0.00781 0.00369 0.00486 1.96532E-006 0.00173 1.96532E-006 C 0.00121 1.96532E-006 0.00069 1.96532E-006 3.33333E-006 1.96532E-006 E">
                                      <p:cBhvr>
                                        <p:cTn id="12" dur="2000" fill="hold"/>
                                        <p:tgtEl>
                                          <p:spTgt spid="46"/>
                                        </p:tgtEl>
                                      </p:cBhvr>
                                    </p:animMotion>
                                  </p:childTnLst>
                                </p:cTn>
                              </p:par>
                            </p:childTnLst>
                          </p:cTn>
                        </p:par>
                      </p:childTnLst>
                    </p:cTn>
                  </p:par>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0.2717 -0.61664 C 0.26528 -0.60855 0.2651 -0.59699 0.25885 -0.58913 C 0.2533 -0.57387 0.24653 -0.55907 0.24305 -0.54265 C 0.23923 -0.52462 0.23507 -0.50427 0.23351 -0.48578 C 0.23316 -0.48161 0.23125 -0.45757 0.23038 -0.45202 C 0.22986 -0.44855 0.22673 -0.43791 0.22552 -0.43283 C 0.22344 -0.42497 0.22344 -0.41526 0.22083 -0.40763 C 0.21667 -0.39468 0.21042 -0.38543 0.20503 -0.37387 C 0.20017 -0.36277 0.20295 -0.36254 0.19861 -0.35052 C 0.18958 -0.32601 0.19774 -0.35722 0.19062 -0.33341 C 0.18663 -0.32046 0.18368 -0.30774 0.17795 -0.29572 C 0.17587 -0.28462 0.17257 -0.27953 0.1684 -0.27005 C 0.16233 -0.25618 0.15955 -0.24809 0.15104 -0.2363 C 0.14531 -0.2178 0.13264 -0.20439 0.12396 -0.18774 C 0.1151 -0.17063 0.1092 -0.16161 0.09861 -0.14728 C 0.0875 -0.13248 0.09705 -0.14034 0.08437 -0.12647 C 0.07587 -0.11699 0.07309 -0.11768 0.06371 -0.10982 C 0.04739 -0.09526 0.02795 -0.07976 0.01285 -0.06265 C -0.00712 -0.04092 -0.03021 -0.01849 -0.04896 0.00463 C -0.05261 0.00925 -0.05486 0.01526 -0.05868 0.0192 C -0.07604 0.04139 -0.09549 0.06035 -0.1125 0.08255 C -0.12535 0.09989 -0.13698 0.12394 -0.15226 0.13781 C -0.16042 0.14498 -0.17153 0.15446 -0.17917 0.16324 C -0.19566 0.1822 -0.18229 0.16948 -0.1967 0.18891 C -0.20452 0.19885 -0.21684 0.20833 -0.22517 0.21619 C -0.23941 0.22844 -0.25261 0.23954 -0.26806 0.24972 C -0.27344 0.25342 -0.27986 0.25342 -0.28559 0.25619 C -0.31146 0.25342 -0.29983 0.25503 -0.31563 0.24787 C -0.32049 0.24301 -0.32517 0.23792 -0.33004 0.23307 C -0.33195 0.23122 -0.33195 0.22729 -0.33316 0.22451 C -0.33715 0.21619 -0.34358 0.20625 -0.34896 0.19885 C -0.3625 0.18105 -0.34774 0.20787 -0.36337 0.1822 C -0.36997 0.1711 -0.37639 0.16 -0.38229 0.14821 C -0.39202 0.12948 -0.40017 0.10775 -0.4125 0.0911 C -0.42222 0.06498 -0.43316 0.04047 -0.44115 0.01318 C -0.44427 0.00209 -0.44618 -0.00924 -0.44896 -0.0208 C -0.44948 -0.02312 -0.45052 -0.02682 -0.45052 -0.02682 C -0.45295 -0.06358 -0.45886 -0.10034 -0.46163 -0.13664 C -0.46163 -0.1378 -0.46597 -0.22289 -0.45695 -0.25317 C -0.45399 -0.26289 -0.43455 -0.30219 -0.4316 -0.30635 C -0.42622 -0.31283 -0.41979 -0.31884 -0.41563 -0.32739 C -0.40139 -0.35606 -0.38351 -0.37965 -0.36649 -0.40554 C -0.36007 -0.41526 -0.35764 -0.42728 -0.35226 -0.43722 C -0.34601 -0.44878 -0.33681 -0.46034 -0.3283 -0.46867 C -0.32205 -0.48578 -0.32934 -0.47005 -0.31892 -0.48161 C -0.30712 -0.49456 -0.30139 -0.50566 -0.28559 -0.51098 C -0.27587 -0.5193 -0.25851 -0.52578 -0.2474 -0.52786 C -0.23577 -0.52716 -0.22413 -0.52763 -0.2125 -0.52578 C -0.20104 -0.52416 -0.18854 -0.50843 -0.18073 -0.50057 C -0.17847 -0.49849 -0.17517 -0.49849 -0.17274 -0.49618 C -0.16163 -0.48716 -0.14913 -0.47398 -0.13941 -0.46242 C -0.1316 -0.45294 -0.12274 -0.44346 -0.11563 -0.43283 C -0.11024 -0.42474 -0.10556 -0.41526 -0.09983 -0.40763 C -0.08611 -0.38913 -0.07257 -0.36809 -0.06163 -0.34635 C -0.04965 -0.32277 -0.06111 -0.3408 -0.04896 -0.31421 C -0.04028 -0.29595 -0.02986 -0.27884 -0.02205 -0.25988 C -0.01615 -0.24508 -0.01337 -0.22843 -0.00781 -0.21341 C -0.00052 -0.19421 0.00729 -0.17456 0.01285 -0.15398 C 0.02118 -0.12323 0.02378 -0.08971 0.03038 -0.05872 C 0.03264 0.000239999999999997 0.03646 0.0592 0.02552 0.11677 C 0.0217 0.13711 0.02014 0.15214 0.0066 0.16324 C -0.0033 0.18012 -0.01302 0.19284 -0.02674 0.20347 C -0.04549 0.23353 -0.0184 0.19052 -0.04271 0.22636 C -0.04497 0.23006 -0.04636 0.23446 -0.04896 0.23723 C -0.07448 0.26474 -0.06077 0.24394 -0.07604 0.26243 C -0.08056 0.26798 -0.08629 0.27746 -0.09184 0.28185 C -0.09965 0.2874 -0.10903 0.29087 -0.11719 0.29642 C -0.12743 0.30289 -0.13611 0.31006 -0.1474 0.31307 C -0.16215 0.31145 -0.17743 0.31191 -0.19184 0.30683 C -0.20695 0.30197 -0.22031 0.2881 -0.23316 0.27723 C -0.26372 0.25133 -0.30052 0.21966 -0.31892 0.17619 C -0.33056 0.14821 -0.34566 0.12047 -0.35226 0.08925 C -0.3533 0.0844 -0.35452 0.07931 -0.35538 0.07446 C -0.35764 0.06151 -0.36163 0.03654 -0.36163 0.03654 C -0.3599 -0.05757 -0.36511 -0.03028 -0.34896 -0.08601 C -0.34358 -0.10427 -0.34115 -0.11815 -0.3283 -0.12832 C -0.31545 -0.15005 -0.30035 -0.16693 -0.28386 -0.18358 C -0.27622 -0.19144 -0.26563 -0.1919 -0.25695 -0.19583 C -0.24479 -0.20208 -0.23333 -0.20809 -0.22049 -0.21086 C -0.19653 -0.23028 -0.16875 -0.23028 -0.14115 -0.2319 C -0.12153 -0.23144 -0.10087 -0.23653 -0.08229 -0.22774 C -0.06597 -0.22057 -0.05208 -0.20763 -0.03941 -0.1919 C -0.03577 -0.18728 -0.03264 -0.1808 -0.0283 -0.17734 C -0.00573 -0.15722 0.0125 -0.12948 0.02882 -0.1008 C 0.03194 -0.08855 0.03767 -0.07421 0.04305 -0.06265 C 0.04479 -0.05364 0.04705 -0.04739 0.05104 -0.03976 C 0.05712 -0.01086 0.05989 0.0192 0.06996 0.04694 C 0.07344 0.07261 0.07639 0.09758 0.07951 0.12324 C 0.07899 0.15607 0.08802 0.19723 0.07326 0.22636 C 0.07083 0.23677 0.06771 0.2407 0.06059 0.24555 C 0.05503 0.25619 0.03524 0.27076 0.02552 0.27515 C 0.0118 0.28787 0.01996 0.28301 0.00017 0.28555 C -0.01771 0.29365 -0.02413 0.28902 -0.04896 0.28787 C -0.05261 0.28509 -0.05677 0.28301 -0.06007 0.27954 C -0.06215 0.277 -0.06302 0.27353 -0.06493 0.27076 C -0.07153 0.26197 -0.07882 0.25457 -0.08559 0.24555 C -0.08802 0.23237 -0.09549 0.22451 -0.10139 0.21388 C -0.10278 0.2111 -0.1033 0.20787 -0.10452 0.20555 C -0.10833 0.19839 -0.1125 0.19284 -0.11563 0.18405 C -0.11875 0.17619 -0.11979 0.16879 -0.12361 0.16116 C -0.12552 0.15052 -0.12847 0.14058 -0.13004 0.12948 C -0.13108 0.10868 -0.13837 0.06151 -0.12674 0.04694 C -0.12205 0.03099 -0.12066 0.02105 -0.10938 0.01133 C -0.09948 -0.00855 -0.0757 -0.02127 -0.05868 -0.02682 C -0.05243 -0.03306 -0.04827 -0.03468 -0.04132 -0.03791 C -0.03125 -0.03468 -0.02708 -0.02358 -0.01892 -0.01641 C -0.01424 -0.01202 -0.01146 -0.01179 -0.00608 -0.01017 C -0.00139 -0.00578 0.00312 -0.00508 0.00816 -0.00184 E">
                                      <p:cBhvr>
                                        <p:cTn id="16" dur="2000" fill="hold"/>
                                        <p:tgtEl>
                                          <p:spTgt spid="4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sbyuh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ga Riv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Volga River runs through the heart of Russia, and dumps into the Caspian Sea.  The river is transportation for many objects.  It is big enough for ships to go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0.51285 -0.51722 C 0.5092 -0.50959 0.504 -0.50335 0.50018 -0.49595 C 0.49288 -0.48231 0.48611 -0.46774 0.47952 -0.45387 C 0.47153 -0.43722 0.48056 -0.45341 0.47483 -0.43653 C 0.47066 -0.42405 0.46511 -0.40948 0.45886 -0.39884 C 0.45504 -0.37318 0.43907 -0.35977 0.43038 -0.33757 C 0.42205 -0.31607 0.40747 -0.30173 0.39705 -0.28254 C 0.39497 -0.27861 0.3941 -0.27376 0.39219 -0.26983 C 0.38403 -0.25387 0.3842 -0.25896 0.37327 -0.24439 C 0.3566 -0.22243 0.34132 -0.19561 0.3224 -0.17688 C 0.31893 -0.17364 0.31476 -0.17179 0.31129 -0.16832 C 0.29532 -0.15306 0.28125 -0.13642 0.26372 -0.12393 C 0.25243 -0.11607 0.23959 -0.11237 0.22882 -0.10289 C 0.21979 -0.09526 0.21163 -0.08532 0.20174 -0.07954 C 0.19705 -0.07699 0.19202 -0.07468 0.18733 -0.07121 C 0.16354 -0.05202 0.19757 -0.06011 0.14775 -0.04162 C 0.11945 -0.03121 0.13594 -0.03815 0.09844 -0.01826 L 0.09844 -0.01803 C 0.09028 -0.01457 0.07743 -0.00994 0.06997 -0.0037 C 0.0658 -1.04045999999979E-006 0.06285 0.00555 0.05886 0.00925 C 0.0441 0.02335 0.02622 0.03098 0.01129 0.04509 C -0.0026 0.05804 -0.01562 0.07353 -0.03003 0.08509 C -0.0533 0.10428 -0.07916 0.12023 -0.10295 0.13804 C -0.12222 0.15237 -0.11267 0.14174 -0.13316 0.15283 C -0.15139 0.16278 -0.16875 0.17526 -0.18715 0.18474 C -0.1934 0.18775 -0.20017 0.18937 -0.20625 0.19306 C -0.22118 0.20139 -0.23611 0.21064 -0.25069 0.22058 C -0.26475 0.22983 -0.27465 0.24023 -0.29027 0.24393 C -0.3092 0.25434 -0.30868 0.25226 -0.32517 0.26682 C -0.34062 0.28069 -0.35087 0.29318 -0.36962 0.29665 C -0.37222 0.29572 -0.37552 0.29688 -0.3776 0.29434 C -0.37934 0.29272 -0.37882 0.28902 -0.37916 0.28601 C -0.38055 0.27445 -0.38107 0.2652 -0.38402 0.25434 C -0.3835 0.22197 -0.38333 0.18937 -0.38229 0.15723 C -0.38159 0.13434 -0.37361 0.09526 -0.36962 0.0726 C -0.36875 0.06752 -0.36441 0.0511 -0.36007 0.04925 C -0.35607 0.04763 -0.35156 0.04763 -0.34739 0.04717 C -0.33298 0.04069 -0.34236 0.04393 -0.31093 0.04717 C -0.29687 0.04856 -0.28576 0.05503 -0.27291 0.06197 C -0.24757 0.07561 -0.27326 0.06104 -0.24427 0.07468 C -0.2276 0.08254 -0.21232 0.09549 -0.1967 0.10636 C -0.18732 0.11306 -0.17656 0.11931 -0.16805 0.12763 C -0.16406 0.13156 -0.16111 0.13688 -0.15712 0.14012 C -0.15364 0.14312 -0.1493 0.14405 -0.14583 0.14636 C -0.13559 0.15353 -0.12812 0.16324 -0.11892 0.17179 C -0.10972 0.18058 -0.0993 0.18821 -0.09027 0.19723 C -0.08159 0.20601 -0.07413 0.21896 -0.06493 0.22682 C -0.04826 0.24069 -0.0658 0.22058 -0.04896 0.23746 C -0.0335 0.25272 -0.01597 0.26682 0.00174 0.27769 C 0.01198 0.28393 0.02361 0.28902 0.03351 0.29665 C 0.0375 0.29942 0.04063 0.30405 0.04462 0.30728 C 0.05365 0.31399 0.06667 0.31977 0.07639 0.32393 C 0.10486 0.33665 0.1342 0.3452 0.16372 0.35145 C 0.2283 0.34867 0.19219 0.35029 0.22552 0.34312 C 0.24584 0.32994 0.26806 0.32069 0.2875 0.3052 C 0.30625 0.29017 0.32153 0.27029 0.33663 0.25017 C 0.35122 0.23029 0.36806 0.21272 0.38108 0.19098 C 0.38907 0.17734 0.39584 0.16278 0.4033 0.14844 C 0.41059 0.1348 0.41337 0.11515 0.41927 0.10012 C 0.42118 0.08393 0.42344 0.06775 0.42552 0.05133 C 0.425 0.04925 0.42535 0.04648 0.42396 0.04509 C 0.42223 0.04301 0.41962 0.04393 0.41771 0.04301 C 0.40243 0.03445 0.42431 0.04254 0.4066 0.03676 C 0.39323 0.02474 0.37726 0.01919 0.36372 0.00717 C 0.32813 -0.02451 0.28681 -0.0504 0.24462 -0.06266 C 0.2342 -0.06936 0.24202 -0.0652 0.22882 -0.06913 C 0.22448 -0.07029 0.21598 -0.07329 0.21598 -0.07306 C 0.18629 -0.07144 0.18802 -0.07306 0.16841 -0.06474 C 0.15209 -0.05017 0.17934 -0.07399 0.15573 -0.05642 C 0.14167 -0.04601 0.12969 -0.03491 0.11441 -0.02682 C 0.11337 -0.02543 0.1125 -0.02358 0.11129 -0.02243 C 0.10886 -0.02035 0.10556 -0.01896 0.1033 -0.01618 C 0.09254 -0.0037 0.10434 -0.01017 0.09375 -0.00578 C 0.08716 0.00763 0.07622 0.01295 0.06684 0.02174 C 0.05886 0.0296 0.04931 0.04301 0.03993 0.04717 C 0.0349 0.05387 0.03073 0.05688 0.02396 0.05989 C 0.01667 0.06636 0.0125 0.06682 0.0033 0.06844 C -0.00034 0.07006 -0.0033 0.07052 -0.00625 0.07468 C -0.00764 0.07653 -0.00781 0.07977 -0.00937 0.08093 C -0.01215 0.08347 -0.01892 0.08509 -0.01892 0.08532 C -0.02048 0.08671 -0.02361 0.08925 -0.02361 0.08948 E">
                                      <p:cBhvr>
                                        <p:cTn id="22" dur="2000" fill="hold"/>
                                        <p:tgtEl>
                                          <p:spTgt spid="5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Land, Hard Travel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ussia’s land is not ideal for traveling.  The marshes in Russia are hard to navigate.  The extreme cold in the subarctic makes machinery not work.  Mountains are hard to go through.  The cold causes ice, which make vehicles slip, and cause accidents.  This is what the land does that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2">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Scale>
                                      <p:cBhvr>
                                        <p:cTn id="29" dur="1000" fill="hold">
                                          <p:stCondLst>
                                            <p:cond delay="0"/>
                                          </p:stCondLst>
                                        </p:cTn>
                                        <p:tgtEl>
                                          <p:spTgt spid="5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1000" fill="hold">
                                          <p:stCondLst>
                                            <p:cond delay="0"/>
                                          </p:stCondLst>
                                        </p:cTn>
                                        <p:tgtEl>
                                          <p:spTgt spid="54">
                                            <p:txEl>
                                              <p:pRg st="0" end="0"/>
                                            </p:txEl>
                                          </p:spTgt>
                                        </p:tgtEl>
                                      </p:cBhvr>
                                    </p:animMotion>
                                    <p:animEffect filter="fade" transition="in">
                                      <p:cBhvr additive="repl">
                                        <p:cTn id="31" dur="10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 calcmode="lin" valueType="num">
                                      <p:cBhvr additive="base">
                                        <p:cTn id="36"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diamond(in)" transition="in">
                                      <p:cBhvr additive="repl">
                                        <p:cTn id="4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sco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oscow is the heart of Russian transportation.  They have four airports, nine main train stations, thirteen main highways, and has one of the biggest subway system in the world.  This can be bad because traffic can be caused easier, also more accidents can be caused. </a:t>
            </a:r>
            <a:endParaRPr b="0" lang="en-US" sz="24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ce causes movement problems.  Big problems.  If water freezes on the runway, planes will slip.  Cars, and buses can slip.  People can lose their lives from ice.  But ice isn’t always bad.  Sea planes can land on ice sheets.  So ice can be good and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3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o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good things about Russian movement.  Since there are many people in Russia, travel businesses won’t go out of business.  </a:t>
            </a:r>
            <a:endParaRPr b="0" lang="en-US" sz="2800" spc="-1" strike="noStrike">
              <a:solidFill>
                <a:srgbClr val="000000"/>
              </a:solidFill>
              <a:latin typeface="Arial"/>
            </a:endParaRPr>
          </a:p>
        </p:txBody>
      </p:sp>
      <p:pic>
        <p:nvPicPr>
          <p:cNvPr id="62" name="" descr=""/>
          <p:cNvPicPr/>
          <p:nvPr/>
        </p:nvPicPr>
        <p:blipFill>
          <a:blip r:embed="rId1"/>
          <a:stretch/>
        </p:blipFill>
        <p:spPr>
          <a:xfrm>
            <a:off x="0" y="5043600"/>
            <a:ext cx="1806480" cy="18144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1.38889E-006 -5.14451E-006 L 1.125 -5.14451E-006 E">
                                      <p:cBhvr>
                                        <p:cTn id="48" dur="2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7:00:01Z</dcterms:created>
  <dc:creator> </dc:creator>
  <dc:description/>
  <dc:language>en-US</dc:language>
  <cp:lastModifiedBy> </cp:lastModifiedBy>
  <dcterms:modified xsi:type="dcterms:W3CDTF">2010-12-15T17:30:05Z</dcterms:modified>
  <cp:revision>5</cp:revision>
  <dc:subject/>
  <dc:title>Russian Movement</dc:title>
</cp:coreProperties>
</file>